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A12-A286-4CFE-9A82-84A42AC5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1EE-5763-47DF-95D3-403C2028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DC5-DB68-404C-B3D7-5E858BB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E3C-97F8-4C0F-AF8E-60E1F95C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A292-D1E8-4635-8F32-0D269B53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7B7-36FC-4658-B8F1-7CDC954B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5F75-8A74-4079-86D2-4841ABE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141F-E83B-422D-BE49-5D7F148E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C1E-8718-40E6-A0A2-251F834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623-4812-44B2-8BEF-05ED2337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F54-FC0B-4767-A0F1-D4F9C13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D64-05C4-4B96-B6C0-DB954E1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17A-3E77-4103-BAC0-D3B1168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B42-FF56-461F-A801-4F2586E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19F-FC99-465C-9196-E477AA6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F2CF-589D-413F-AE8B-9E400F7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98A4-3EE5-453E-8F01-AD209F9F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57F-07E5-40FB-9E1E-914EC5B1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746-67D8-453D-BC84-4F54F0F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4E0-AFD0-42AF-8FE7-92AF576D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D86-8C41-4B45-9AEF-1FDCD4C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DDE-D611-4324-8256-17A1D83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CAC-06B5-4EB0-86F5-69AC3BD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26D-8F9B-41D7-B5A5-05B9C9B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02BE-79A4-4878-989C-109E62482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142-FC32-4768-961D-106E0AAE2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YhCn0jf46U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67080" y="177480"/>
            <a:ext cx="46483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&amp;I264: Visu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8840" y="22096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9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s of tex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76160" y="14475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and visual media ma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visual message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h still and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sual litera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the ability to interpret, use, appreciate, and create images and video using both conventional and 21st century media in ways that advance thinking, decision making, communication,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f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s of enjoyment, personal interpretation, discusses reasons for liking or disliking a particular image, discuss characters an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sition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such as line, angle, color, perspective, symbols, layout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ic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ociocritical understandings of the texts, comments about why the artist/illustrator chose what to include, perspective. How the image positions th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143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ext set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5998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: Self Perception  Concept: Society Can Shape our Self-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 Rockwel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rl in the Mirr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i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een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Schwartz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pular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y Lovell and David Catr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 Tall Molly Lou Me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M. Kay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he Ordinary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bert N. Munsch and Michael Martchenk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per Bag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Hoffma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ess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ve Evolu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tube video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iYhCn0jf46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text and determine what Concepts About Print or targets do you need to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Litera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argets could you t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structional strategies could you use for teaching the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ffective, compositional and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assess your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some of the activities using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texts could you pair this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i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Integrated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Minilesson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day’s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-lecture- Visual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Strategies (Viewing and Visually Represe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’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Elements of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013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al literacy is the ability to read texts in an active, reflective manner in order to better understand power, inequality, and injustice in human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’ cultural knowledge and multimedia practices should be used (Comber, 2001, Vasquez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we read we bring with us our past experiences  and understandings about how the world works. (Vasquez,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Lite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371240"/>
            <a:ext cx="7925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ability to read other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the possibility of understanding our own and others’ experiences from that many more vantage point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aluing, exploring, and appreciating multiple perspectives  in the classroom.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Johnston, 199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literacy is social: disrupting the status quo, questioning, studying taken-for-granted assumptions, acting for change. It is reading the world and taking acti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an Sluys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we teac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exts- incorporate literature with “real-life”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characters’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(Text to Self, Text to World, Text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ildren’s literature to focus on so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hildren to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a variety of texts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modality and Multilite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need to navigate and interpret the growing variety of texts which require using different literac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modal Texts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ays of communicating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d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sta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literacies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teracy skills needed to interpret multimodal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anguage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one sign system used to describe or define another sign system (color, font, lines, texture, placement in space, symbolic imag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CCSS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rn and Tal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udents need to know and do? What do we need to assess? Make a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do people who are visually literate know and what are they abl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lement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emotional and psychological effects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symbolic, metaphorical and representational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sign messages using multiple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5:41:02Z</dcterms:created>
  <dc:creator>College of Education</dc:creator>
  <dc:description/>
  <cp:keywords/>
  <dc:language>en-US</dc:language>
  <cp:lastModifiedBy>dana karraker</cp:lastModifiedBy>
  <dcterms:modified xsi:type="dcterms:W3CDTF">2013-03-19T01:25:5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16959</vt:lpwstr>
  </property>
</Properties>
</file>